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6EA-8E5A-49C1-B99F-D1D47267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1DD-53D1-4CF6-8F99-EB3C4EDE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662-39B0-47A0-8C22-2752B830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76B-005A-429C-835F-ACC2EA38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E22-6B25-46C0-B049-5429C5E7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D1DE-B992-417C-BD98-B87ACFE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70D7-35DE-4CAC-AF3D-D1B6F569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6B5B-497E-48AC-BC9D-18771C4C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71DE-A328-45F1-9277-A9D438B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B26-D250-48AC-83FB-F430F7E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BB87-07FE-4DD2-9EBF-9222961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6E7-8AD4-4F6E-BA21-49BFA8E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6A8-F02A-44CA-81A2-8F7DDFC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A0B3-D100-4A47-B4C6-42DCBD2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677F-A35E-4757-9FB3-76ADC04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F47-F0C7-46DF-9CE2-928C475C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9F6-2466-4416-9999-D981AF47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8D18B-175A-4649-A5ED-3AE23FAF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9C272-D156-47CB-929E-0A2CEFC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4BC5D-8FFF-4A6F-90FE-7985743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9ACEE-BC0A-440F-98E7-ABB9F66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8377F-A9EC-47DC-B0CF-6EF299DA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4E3-6EEA-486C-AB9A-776B781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9FFEB-8E3D-4FD4-BF5B-34324D8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DD586-2DFE-4099-9A9E-B702ACE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E72ED-671A-490A-8892-1B2BD7C5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DB12E-12E8-482E-9444-F60F23B2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29898-7B0C-43E2-A6E0-36B8BC4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F1CD3-F5B6-42A6-A050-9DC6D764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24537-D6BD-4DA5-9C1E-04484B91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99A3-69DC-4DCC-972A-2D8D8005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82C1-695E-406D-8F33-7547F67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997A-78FD-4AF6-B784-84922D9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BC9-560A-4F4A-A92E-B1D936B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3A9E-2EEC-4C16-82B1-4434664B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E40C-8ADE-4A6C-9BC9-7EC25F50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949C-F6A4-4D16-879E-7185D27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CD8F-6D4C-4FD3-91EB-700ECCA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553B-A43A-41AB-8F4D-E5196A1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A554-B9A1-4889-9A8F-9955D58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5A3D-1544-4F8D-B38A-38C288F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69D6-7FC5-4B42-972B-77C5FD5E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92F2-1B31-42CF-8AE4-79994E98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D36-0EA3-463E-95A9-4819B4A6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C89-2DA5-4759-8598-D794777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256-0BA3-4B13-A075-F3D48F2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4D3-723D-4BD4-9B46-E3CB43A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75B-FAD9-4E57-AA80-12C702D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84A-4093-47A4-AEC7-C7BC82F61675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330-6CFB-4125-98D6-101F09F3E0AF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720-9DF4-4EDB-848F-87DD3F1F68CD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56C-ECA4-4ACA-B537-24BCC74158C4}" type="slidenum">
              <a:rPr b="0" lang="en-C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3858" TargetMode="External"/><Relationship Id="rId2" Type="http://schemas.openxmlformats.org/officeDocument/2006/relationships/hyperlink" Target="http://www.youtube.com/watch?v=olO73t4kf9E" TargetMode="External"/><Relationship Id="rId3" Type="http://schemas.openxmlformats.org/officeDocument/2006/relationships/hyperlink" Target="file:///Book1%20Compound%20Word%20Excel.xlsx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3328?ref=search" TargetMode="External"/><Relationship Id="rId2" Type="http://schemas.openxmlformats.org/officeDocument/2006/relationships/hyperlink" Target="http://www.youtube.com/watch?v=whP2p9sIJ6w" TargetMode="External"/><Relationship Id="rId3" Type="http://schemas.openxmlformats.org/officeDocument/2006/relationships/hyperlink" Target="file:///Copy%20of%20fairytl%20-%20Grammar%20Scrambler.xls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nc.org/lp/pages/4009?ref=search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preadsheets in Language Ar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Group 1 and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C:\Users\susan.marshall\AppData\Local\Microsoft\Windows\Temporary Internet Files\Content.IE5\7HFQ6HZE\MP900387953[1].jpg"/>
          <p:cNvPicPr/>
          <p:nvPr/>
        </p:nvPicPr>
        <p:blipFill>
          <a:blip r:embed="rId1"/>
          <a:stretch/>
        </p:blipFill>
        <p:spPr>
          <a:xfrm>
            <a:off x="5257800" y="41148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ETS Standar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NETS FOR TEACHERS</a:t>
            </a: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NETS FOR STUDENT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1 - Facilitate and Inspire Student Learning and Creativ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2- Design and Develop Digital Age Learning Experiences and Assess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3 – Model Digital Age Work and Lear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2- Communication and Collabo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3 - Research and Information Flu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dard 4 – Critical Thinking, Problem Solving and Decision Mak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– Lesson #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oudy with a Chance of Meatballs Less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385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y the story to your clas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Cloudy with a Chance of Meatballs 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Book1 Compound Word Excel.xls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Georgia"/>
              </a:rPr>
              <a:t>The purpose of this lesson is to first show students in grade 1 and 2 what a spreadsheet looks like and why we use them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4" descr="C:\Users\susan.marshall\AppData\Local\Microsoft\Windows\Temporary Internet Files\Content.IE5\6AV762EA\MC900232518[1].wmf"/>
          <p:cNvPicPr/>
          <p:nvPr/>
        </p:nvPicPr>
        <p:blipFill>
          <a:blip r:embed="rId4"/>
          <a:stretch/>
        </p:blipFill>
        <p:spPr>
          <a:xfrm>
            <a:off x="6858000" y="3505320"/>
            <a:ext cx="2079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– Lesson #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mmar Scramblers Lesson – Grade 2 and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3328?ref=sear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ry of Little Red Riding Ho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www.youtube.com/watch?v=whP2p9sIJ6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Copy of fairytl - Grammar Scrambler.x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4" descr="C:\Users\susan.marshall\AppData\Local\Microsoft\Windows\Temporary Internet Files\Content.IE5\22EZCB43\MC900021589[1].wmf"/>
          <p:cNvPicPr/>
          <p:nvPr/>
        </p:nvPicPr>
        <p:blipFill>
          <a:blip r:embed="rId4"/>
          <a:stretch/>
        </p:blipFill>
        <p:spPr>
          <a:xfrm>
            <a:off x="152280" y="762120"/>
            <a:ext cx="17589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readsheet Lesson #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readsheets for Dinner – Grade 4 and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learnnc.org/lp/pages/4009?ref=sear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of this less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tion.xls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5" descr="C:\Users\susan.marshall\AppData\Local\Microsoft\Windows\Temporary Internet Files\Content.IE5\22EZCB43\MC900389510[1].wmf"/>
          <p:cNvPicPr/>
          <p:nvPr/>
        </p:nvPicPr>
        <p:blipFill>
          <a:blip r:embed="rId2"/>
          <a:stretch/>
        </p:blipFill>
        <p:spPr>
          <a:xfrm>
            <a:off x="5867280" y="3809880"/>
            <a:ext cx="2103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Great Websites for Spreadsheet Idea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alicechristie.org/edtech/ss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www.madison.k12.al.us/compserv/Spreadsheets/spreadsheetresources.ht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http://volweb.utk.edu/school/tdalton/lesson2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oblyer, M.D. &amp; Doering, H. Aaron., Integrating Educational Technology into Teaching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dition, 2010 Pearson Education Canad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learnnc.or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5:29:47Z</dcterms:created>
  <dc:creator>susan marshall</dc:creator>
  <dc:description/>
  <dc:language>en-US</dc:language>
  <cp:lastModifiedBy>Mike</cp:lastModifiedBy>
  <dcterms:modified xsi:type="dcterms:W3CDTF">2012-07-12T17:40:27Z</dcterms:modified>
  <cp:revision>13</cp:revision>
  <dc:subject/>
  <dc:title>Spreadsheets in Language Arts</dc:title>
</cp:coreProperties>
</file>